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331-06C3-4C7E-90BB-B72D4928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exposed to diving grade oxygen must be cleaned periodically removing combustible contaminants – periodically is perhaps not quite the right word. There is a requirement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eaning but additional cleaning may be required between times if the cylinder is exposed to a contaminant – e.g. inadequately filtered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 narcosis and oxygen toxicity not a problem for ODs but included for awareness for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exceed the MOD for the gas mix – additional consideration for more highly qualified divers. Included for awareness and to make the point that there are further considerations to be taken into account when progressing qual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1720-DF08-4F19-BE96-5E9E6BDAF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0B0A-62A6-4C94-ABF5-E26D54E24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737A-449A-48FA-BEBE-D23486DC3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028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20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72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028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20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EA92-6F90-4562-AB25-F5C31A741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D8FA-01C9-418E-ACB3-F16AE729F3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9D18-6CED-415B-B2EC-BB40B794FE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30AA-32F7-4802-9C53-522187B06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A090-5368-417A-BD02-4C1F3355E4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9416-700A-410E-952E-577211393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4760" y="45684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5358-8499-4DB5-BFB2-7AC635068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E99F-6029-4288-8755-0CE0F49C6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925A-E75C-49C1-81DD-884103BAA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5A0C-6C61-441E-A718-6A56E9117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68F1-0E1E-4BEC-A989-A3CFCE4FB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96FF-E716-437A-B5D1-1BB4A12589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19B1-AAC6-4C51-AEBB-7CA4B431BF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028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5720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372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028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5720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56B6-0AE8-49BA-8D83-14B1DB1CD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02AE-7AC9-451C-86EE-257B19361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6A65-6359-4FFB-94E1-75F8C17BB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685F-B008-4095-8FCB-216AEC528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45684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4741-D0B5-4900-86F5-6A929A32B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FF48-041C-45F4-BBC7-12CBA5F42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A265-8CC5-403D-AC1A-BF7F517F7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2DE6-E409-471D-B0D1-E9C56BD3F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074600" indent="-358560">
              <a:lnSpc>
                <a:spcPct val="90000"/>
              </a:lnSpc>
              <a:spcBef>
                <a:spcPts val="1049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11360" indent="-357120">
              <a:lnSpc>
                <a:spcPct val="90000"/>
              </a:lnSpc>
              <a:spcBef>
                <a:spcPts val="1049"/>
              </a:spcBef>
              <a:buClr>
                <a:srgbClr val="993300"/>
              </a:buClr>
              <a:buFont typeface="CommonBullets" charset="2"/>
              <a:buChar char="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79720" indent="-22860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7972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7972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419880"/>
            <a:ext cx="7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NxWksh.</a:t>
            </a:r>
            <a:fld id="{AE61AB23-B46C-4AFB-AAE6-C887EF01C8D4}" type="slidenum"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11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© BSAC 20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53320" y="5562720"/>
            <a:ext cx="1217520" cy="1255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240" y="1447920"/>
            <a:ext cx="91407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2240" y="260280"/>
            <a:ext cx="1571400" cy="93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Nitro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Diver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484280"/>
            <a:ext cx="867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38880" y="5052960"/>
            <a:ext cx="1598760" cy="165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42480" y="6391440"/>
            <a:ext cx="971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NxWksp.</a:t>
            </a:r>
            <a:fld id="{3297B5D9-3219-43D0-A7E2-2BBC8CA88F6B}" type="slidenum"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11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© BSAC 20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224"/>
              </a:spcBef>
              <a:buClr>
                <a:srgbClr val="993300"/>
              </a:buClr>
              <a:buFont typeface="CommonBulle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76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90720" y="5498640"/>
            <a:ext cx="699120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cc"/>
                </a:solidFill>
                <a:latin typeface="Arial"/>
              </a:rPr>
              <a:t>The Nitrox Workshop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Ocean Diver Supplementary Train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16360" y="2571840"/>
            <a:ext cx="3311280" cy="26161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777777"/>
            </a:outerShdw>
          </a:effectLst>
        </p:spPr>
      </p:pic>
      <p:grpSp>
        <p:nvGrpSpPr>
          <p:cNvPr id="93" name=""/>
          <p:cNvGrpSpPr/>
          <p:nvPr/>
        </p:nvGrpSpPr>
        <p:grpSpPr>
          <a:xfrm>
            <a:off x="0" y="2276640"/>
            <a:ext cx="9144000" cy="29880"/>
            <a:chOff x="0" y="2276640"/>
            <a:chExt cx="9144000" cy="29880"/>
          </a:xfrm>
        </p:grpSpPr>
        <p:sp>
          <p:nvSpPr>
            <p:cNvPr id="94" name=""/>
            <p:cNvSpPr/>
            <p:nvPr/>
          </p:nvSpPr>
          <p:spPr>
            <a:xfrm>
              <a:off x="0" y="2276640"/>
              <a:ext cx="9140760" cy="14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306520"/>
              <a:ext cx="867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urface Interval Tab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3800520" cy="88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rface Interval 3 hou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Dive CTC = C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2676600"/>
            <a:ext cx="5438880" cy="32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6" name=""/>
          <p:cNvSpPr/>
          <p:nvPr/>
        </p:nvSpPr>
        <p:spPr>
          <a:xfrm>
            <a:off x="2647800" y="4660920"/>
            <a:ext cx="2217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9240" y="3429000"/>
            <a:ext cx="0" cy="681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13320" y="4503600"/>
            <a:ext cx="98424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4058-81C0-4D95-B7AA-260898A34B52}" type="slidenum">
              <a:t>10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43320" y="1887480"/>
            <a:ext cx="4672080" cy="2635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Planning - dive two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3519360" cy="29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cond Div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metr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e Code = 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Good practice to increase oxygen % for the second div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5221440"/>
            <a:ext cx="494028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46240" y="3807000"/>
            <a:ext cx="1492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49840" y="3809520"/>
            <a:ext cx="170496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3800" y="4203720"/>
            <a:ext cx="324000" cy="315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A833-1774-4DA1-8701-DC04A5AF3B07}" type="slidenum">
              <a:t>11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Dive Planning - Comput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5894640" cy="454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ve computers can be used in exactly the same way as for diving using air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the dive, dive the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of nitrox 32 &amp; nitrox 36 at OD level requires no changes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the dive plann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the computer during the d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ess to post div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ome computers can be programmed for different nitrox mixes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At OD level keep set to 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mixes, and their implications, are covered during training for higher qual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73840" y="2325600"/>
            <a:ext cx="2871720" cy="28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ED84-9522-4843-97FF-F4DB248BEE6B}" type="slidenum">
              <a:t>12</a:t>
            </a:fld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Nitrox Cylind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7720" y="2205000"/>
            <a:ext cx="47419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fferent labels for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“Breathing Air” and “Nitro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linders used for nitrox usually need to be periodically cleaned &amp;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1447920" cy="439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40200" y="2949480"/>
            <a:ext cx="2062080" cy="120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0600" y="4363920"/>
            <a:ext cx="20224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6231-9DA3-49D6-AB88-372A7902F1C7}" type="slidenum">
              <a:t>13</a:t>
            </a:fld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Practic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8920" y="1500120"/>
            <a:ext cx="703116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eaning of equipm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supports combu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s and greases must be saf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igher oxygen perce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linders exposed to oxygen must be cleaned either periodically removing combustible contaminants or if the cylinder is knowingly exposed to a contami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gulators do not require cleaning if used with less than Nitrox 40 (confirm with the manufactur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mergency cylind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filling with nitrox unless oxygen clea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58280" y="1763640"/>
            <a:ext cx="123804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6A85-7AF6-4B0D-966E-B0D9854628E7}" type="slidenum">
              <a:t>14</a:t>
            </a:fld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itrox – Procedur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9160" y="1599840"/>
            <a:ext cx="6406920" cy="31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rcentages must be checked with an oxygen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analys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efore us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 analyser manufacturer’s guid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d gas should not vary more th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% from the desired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ng beyond these conditions requires additional considerations (e.g. MOD adjustm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cylinders should be clearly marked with oxygen percentage and M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98" b="98"/>
          <a:stretch/>
        </p:blipFill>
        <p:spPr>
          <a:xfrm>
            <a:off x="6807240" y="2879640"/>
            <a:ext cx="2047680" cy="18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C520-D166-4A97-9C08-BC1D85E983D6}" type="slidenum">
              <a:t>1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Using an analys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4600" y="1749600"/>
            <a:ext cx="1403280" cy="1912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8000" y="1844640"/>
            <a:ext cx="259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55680" indent="-3556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witch on the gas anal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9960" y="4389480"/>
            <a:ext cx="2317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401400" indent="-401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lowly open the valv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- gas 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</a:rPr>
              <a:t>gent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hiss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-87" b="67"/>
          <a:stretch/>
        </p:blipFill>
        <p:spPr>
          <a:xfrm>
            <a:off x="534960" y="4336920"/>
            <a:ext cx="1562040" cy="1509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82" b="-80"/>
          <a:stretch/>
        </p:blipFill>
        <p:spPr>
          <a:xfrm>
            <a:off x="4995720" y="1892160"/>
            <a:ext cx="1246320" cy="1681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0" t="0" r="65" b="-82"/>
          <a:stretch/>
        </p:blipFill>
        <p:spPr>
          <a:xfrm>
            <a:off x="4897440" y="4189320"/>
            <a:ext cx="1555920" cy="207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556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2880" y="4341960"/>
            <a:ext cx="22939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5040" indent="-365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sent the analyser to the cylinder va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844640"/>
            <a:ext cx="22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5040" indent="-365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alibration, essential befo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B983-4BF7-4285-B1B2-B2A3602BBD0B}" type="slidenum">
              <a:t>16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Analysing a mix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98" b="98"/>
          <a:stretch/>
        </p:blipFill>
        <p:spPr>
          <a:xfrm>
            <a:off x="725400" y="1781280"/>
            <a:ext cx="3108240" cy="277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181400" y="2185920"/>
            <a:ext cx="36752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. Take a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. Record the analysi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CEE5-CC0F-41AB-BB9F-4DAF7ECE7C4B}" type="slidenum">
              <a:t>17</a:t>
            </a:fld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nalysing essentia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8920" y="1614240"/>
            <a:ext cx="8023320" cy="35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librate prior to us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eep flow rate even and as low as possib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rratic readings point towards analyser failur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void windy condi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void moistur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t Ocean Diver level your analysis should b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i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% of target mi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ore analyser away from elevated oxygen level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593D-A30B-4645-94A7-E052AA372120}" type="slidenum">
              <a:t>18</a:t>
            </a:fld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81040" y="1600200"/>
            <a:ext cx="6323040" cy="48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itrox gas composi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enefits of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cean Diver qualific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operating depth of 20 metr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NO-STOP dives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ve planning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SAC 88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 (21%)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quipm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ylinders labelled with gas % and M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as analysi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152" b="136"/>
          <a:stretch/>
        </p:blipFill>
        <p:spPr>
          <a:xfrm>
            <a:off x="6226200" y="4094280"/>
            <a:ext cx="1959120" cy="219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216480" y="1536840"/>
            <a:ext cx="270036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FA6-DC36-4FD8-B12B-3A31B8EA0B4D}" type="slidenum">
              <a:t>19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i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6840" y="2158920"/>
            <a:ext cx="5032080" cy="42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ppreciate the benefits of diving on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ve safely in open water using nitrox 32 and nitrox 36 for no stop div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 dives using nitrox with BSAC 88 Tables or air comput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erstand potential equipment implic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erstand the methodology for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nalysing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 blended nitrox mi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580000" y="2276640"/>
            <a:ext cx="3200400" cy="27986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777777"/>
            </a:outerShdw>
          </a:effectLst>
        </p:spPr>
      </p:pic>
      <p:sp>
        <p:nvSpPr>
          <p:cNvPr id="99" name=""/>
          <p:cNvSpPr/>
          <p:nvPr/>
        </p:nvSpPr>
        <p:spPr>
          <a:xfrm>
            <a:off x="366120" y="162864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enable BSAC Ocean Divers (or similar)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DAE6-AF16-4CAF-942C-2EFCB673F26B}" type="slidenum">
              <a:t>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AB77-87DF-42B5-80C8-50D1FC927DB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What is nitrox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85600"/>
            <a:ext cx="6202080" cy="37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breathing gas usually having more than 21%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gas composition is defined by the nitrogen and oxygen gas frac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21 (Air) = 21% oxygen + 79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32 = 32% oxygen + 68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36 = 36% oxygen + 64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s the percentage of oxygen in the nitrox mix is increased, consequently the percentage of nitrogen is reduce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0" y="2755800"/>
          <a:ext cx="211464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0" y="2755800"/>
                    <a:ext cx="2114640" cy="192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553160" y="2784600"/>
            <a:ext cx="65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60840" y="1601640"/>
          <a:ext cx="200988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0840" y="1601640"/>
                    <a:ext cx="20098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3239-74F8-40AF-80EE-0E8EFC623A41}" type="slidenum">
              <a:t>3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Why nitrox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680" y="1600200"/>
            <a:ext cx="4829040" cy="433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vantages of nitrox – less nitrogen mea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safety factor when used with air table or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risk of D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isadvantages of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divers can still suffer D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ain equipment must b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dicated to the use of nitro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hods of cylinder filling can expose cylinders to diving grade oxy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toxicity (explain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16600" y="2789280"/>
            <a:ext cx="3119400" cy="21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C30C-31E1-4A15-9E4E-D09B33691575}" type="slidenum">
              <a:t>4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cean Diver Qualif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280" y="1600200"/>
            <a:ext cx="4416480" cy="52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 Ocean Diver is allowed to dive to a maximum depth of 20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icipate only in “No-Stop” dives using Air, Nitrox 32 or Nitrox 36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 dives using an air table or air comput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example, an Ocean diver who has not dived in the past 24 hours is able to dive within the illustrated no-stop div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nvelop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876920" y="1832040"/>
            <a:ext cx="3949560" cy="3668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86360" y="2789280"/>
            <a:ext cx="2054160" cy="13827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AF40-F24E-435B-A0E7-EF309B8A065C}" type="slidenum">
              <a:t>5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360" y="1985760"/>
            <a:ext cx="8007480" cy="33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xygen can be toxic depending upon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erating depth (pressure) of the d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 of exposure at the operating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raction of oxygen in the blended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ig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or auditory disturb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scular t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ghly unlikely occurrence for Ocean Div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920" y="2198520"/>
            <a:ext cx="2296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GB" sz="15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5072-CE88-4FDA-895D-5EFFB5BEC83F}" type="slidenum">
              <a:t>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360" y="1600200"/>
            <a:ext cx="80074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solu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 the dive and return to su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mix has a defined “Maximum Operating Depth” (MOD), which exceeds the Ocean Diver depth limit of 2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49"/>
              </a:spcBef>
              <a:buClr>
                <a:srgbClr val="008000"/>
              </a:buClr>
              <a:buSzPct val="75000"/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x 32% - 35 metres for NO-STOP d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49"/>
              </a:spcBef>
              <a:buClr>
                <a:srgbClr val="008000"/>
              </a:buClr>
              <a:buSzPct val="75000"/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x 36% - 30 metres for NO-STOP d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ways analyse the nitrox mix before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ways clearly label the cylinder wit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 percen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NOT exceed the MOD for the gas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considerations need to be understood as the diver progresses through higher levels of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9014-7241-4B18-A379-9A611D774F98}" type="slidenum">
              <a:t>7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827600" y="1924200"/>
            <a:ext cx="3949560" cy="3668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BSAC 88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ables - Planning a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o-Stop Div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720" y="2600280"/>
            <a:ext cx="4973760" cy="28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ive to 20 m for 30 minut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epth and/or time is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‘in between’ valu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8480" indent="-336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ext greater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336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ext longer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rface Code is 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56120" y="3956040"/>
            <a:ext cx="877680" cy="2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0" y="4199040"/>
            <a:ext cx="1384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3160" y="4273560"/>
            <a:ext cx="1800" cy="942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9480" y="5332320"/>
            <a:ext cx="371520" cy="189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2B4F-EA88-4D30-9E4A-35F85E01C1C1}" type="slidenum">
              <a:t>8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ning Two Div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00" y="2471400"/>
            <a:ext cx="325116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irst Div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m for 33 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ing Code = 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44800" y="1641600"/>
            <a:ext cx="4392720" cy="4313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50960" y="4275000"/>
            <a:ext cx="1492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03800" y="4289400"/>
            <a:ext cx="174456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67360" y="5651640"/>
            <a:ext cx="324000" cy="315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1440" y="4425840"/>
            <a:ext cx="0" cy="1127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0E06-A74F-40A8-85D2-0D633DD960FD}" type="slidenum">
              <a:t>9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20:01:32Z</dcterms:created>
  <dc:creator>reedj; scarsbrookr</dc:creator>
  <dc:description>V02</dc:description>
  <dc:language>en-US</dc:language>
  <cp:lastModifiedBy>Honeywell</cp:lastModifiedBy>
  <dcterms:modified xsi:type="dcterms:W3CDTF">2007-01-08T17:19:52Z</dcterms:modified>
  <cp:revision>162</cp:revision>
  <dc:subject/>
  <dc:title>BSAC OD Nitrox Workshop </dc:title>
</cp:coreProperties>
</file>